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D426-FE70-422C-9115-4913C81A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47240"/>
            <a:ext cx="868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9E5-5759-4EBD-981D-4175E0DE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472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07880" y="37472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4A0-18FE-4623-ACF2-9D6E9983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3720" y="11426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30600" y="11426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472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3720" y="37472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30600" y="37472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A156-9664-463D-BAB5-4C11969C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145A9-8688-4EEC-9026-127E3D41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68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B9DC-4760-4D6A-8451-3FD48940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3E5E-AAEC-4F54-93E7-35610A32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E3C0-2536-4BFA-BAFC-08C32F8D2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B3A4E-F4DA-4FC5-8966-310310B2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0" y="-9576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CBFFA-920E-4327-8958-C1CA273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472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9FCF-0B31-4220-9071-393080B0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68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F10-54FC-44FE-B1A3-4C9E9A07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07880" y="37472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7AA7-A28C-4AE2-AC6A-1489A758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747240"/>
            <a:ext cx="868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7938C-B121-4CEF-A532-2E953BC8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747240"/>
            <a:ext cx="868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BA34-A106-4DA9-AF96-8C6C84C3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472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07880" y="37472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4147-0B5C-458F-BE3B-50560884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93720" y="11426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30600" y="11426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7472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93720" y="37472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30600" y="3747240"/>
            <a:ext cx="27964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9148-03B1-46C5-AEFE-0A61DB3B1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CDBD-231F-4B71-ABE6-C590E48D8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7D6-D7F5-4F5B-95F2-6FDE7198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3F53-1289-49EF-A497-2763CBC3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0" y="-95760"/>
            <a:ext cx="91425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D09B-91DE-4308-B877-49D28B76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472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DA13-16FE-4F98-9959-538D0E72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07880" y="37472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7FD6-CCDE-4475-AC6C-7DF523BD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7880" y="1142640"/>
            <a:ext cx="42382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47240"/>
            <a:ext cx="86853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F3D-D846-4EF8-8369-80D8828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440" y="6549840"/>
            <a:ext cx="190332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3720" y="6549840"/>
            <a:ext cx="289404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Durand/DeRose - Hypertext 200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549840"/>
            <a:ext cx="19036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2615F2-A70F-4CED-8CCD-35438B32F70E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828800"/>
            <a:ext cx="80755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-289080"/>
            <a:ext cx="9144000" cy="6918480"/>
            <a:chOff x="0" y="-28908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155520"/>
              <a:ext cx="360360" cy="315288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-28908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874800"/>
              <a:ext cx="9144000" cy="569412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lnTo>
                    <a:pt x="0" y="3587"/>
                  </a:lnTo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240"/>
              <a:ext cx="9144000" cy="85392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11608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23336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154320"/>
              <a:ext cx="9144000" cy="305604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26376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95760"/>
            <a:ext cx="91425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9CB92-A7D8-4B77-9EAE-B9C11B6ACFE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142640"/>
            <a:ext cx="86853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9496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rojan Horse Markup</a:t>
            </a:r>
            <a:br>
              <a:rPr sz="4400"/>
            </a:br>
            <a:br>
              <a:rPr sz="4400"/>
            </a:br>
            <a:r>
              <a:rPr b="0" lang="en-GB" sz="2800" spc="-1" strike="noStrike">
                <a:solidFill>
                  <a:srgbClr val="ffcc00"/>
                </a:solidFill>
                <a:latin typeface="Times New Roman"/>
              </a:rPr>
              <a:t>Extreme Markup 2007: Overlap Workshop</a:t>
            </a:r>
            <a:br>
              <a:rPr sz="3600"/>
            </a:br>
            <a:r>
              <a:rPr b="0" lang="en-GB" sz="2800" spc="-1" strike="noStrike">
                <a:solidFill>
                  <a:srgbClr val="ffcc00"/>
                </a:solidFill>
                <a:latin typeface="Times New Roman"/>
              </a:rPr>
              <a:t>Montreal, August 6, 2007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br>
              <a:rPr sz="3200"/>
            </a:br>
            <a:r>
              <a:rPr b="0" lang="en-GB" sz="3200" spc="-1" strike="noStrike">
                <a:solidFill>
                  <a:srgbClr val="ffffcc"/>
                </a:solidFill>
                <a:latin typeface="Times New Roman"/>
                <a:ea typeface="Tahoma"/>
              </a:rPr>
              <a:t>Steven J. DeRose , Ph.D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Location Probl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52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XML has 2 things in a string/file/documen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rku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&lt;p&gt;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llo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&lt;/p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w should we “Count” thing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&lt;p&gt;</a:t>
            </a:r>
            <a:r>
              <a:rPr b="0" lang="en-GB" sz="2800" spc="-1" strike="noStrike">
                <a:solidFill>
                  <a:srgbClr val="ffffff"/>
                </a:solidFill>
                <a:latin typeface="Courier New"/>
              </a:rPr>
              <a:t>hello</a:t>
            </a: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&lt;/p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123456789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1   2    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1   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0">
              <a:lnSpc>
                <a:spcPct val="84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     </a:t>
            </a:r>
            <a:r>
              <a:rPr b="0" lang="en-GB" sz="2800" spc="-1" strike="noStrike">
                <a:solidFill>
                  <a:srgbClr val="ffff00"/>
                </a:solidFill>
                <a:latin typeface="Courier New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 does it matter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things that have numbers/location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 what we can point/link/refer 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etermine where we can insert other thin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 be compared as to or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 two things can have the same “location” in the same space of  locations, or els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annot uniquely refer to things (big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annot use a string/linear representation like XML (smal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umbering all characte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Useful for low-level editing/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enerally part of some internal repres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owev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bscures the concept of markup </a:t>
            </a:r>
            <a:r>
              <a:rPr b="0" i="1" lang="en-GB" sz="2800" spc="-1" strike="noStrike">
                <a:solidFill>
                  <a:srgbClr val="ffffcc"/>
                </a:solidFill>
                <a:latin typeface="Times New Roman"/>
              </a:rPr>
              <a:t>structu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ttributes/gis aren't a “thing” in this mod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plementation, not structures (ignoring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Numbering “tags”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= treat tags as “atom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ort of a “sax”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voids pulling syntax of tags into mo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u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e would expect to be able to link/refer to tags, which seems bog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r at least, seems to be very different from linking/ referring to cont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Elements and tre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member, this is overla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document is not a tre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e can't match start/end without more inform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co-index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xternal offsets/location references/et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we truly speak of “nodes”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des in graph theory cannot “overlap”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at formalism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trees, we are in </a:t>
            </a:r>
            <a:r>
              <a:rPr b="1" lang="en-GB" sz="3200" spc="-1" strike="noStrike">
                <a:solidFill>
                  <a:srgbClr val="ffffcc"/>
                </a:solidFill>
                <a:latin typeface="Times New Roman"/>
              </a:rPr>
              <a:t>graph theory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re are </a:t>
            </a:r>
            <a:r>
              <a:rPr b="1" lang="en-GB" sz="2800" spc="-1" strike="noStrike">
                <a:solidFill>
                  <a:srgbClr val="ffffcc"/>
                </a:solidFill>
                <a:latin typeface="Times New Roman"/>
              </a:rPr>
              <a:t>nodes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ffffcc"/>
                </a:solidFill>
                <a:latin typeface="Times New Roman"/>
              </a:rPr>
              <a:t>ar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raversal, partial/full ordering,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 add labels, directions, “colors,”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next step “up” in graph theory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AG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odelling overlap via DAGs mean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e essentially “segment” content, then reassem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at are the segment? Anything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95400"/>
            <a:ext cx="91440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DAGs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6080040"/>
            <a:ext cx="9144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0" lang="en-GB" sz="3600" spc="-1" strike="noStrike">
                <a:solidFill>
                  <a:srgbClr val="ffffcc"/>
                </a:solidFill>
                <a:latin typeface="Courier New"/>
              </a:rPr>
              <a:t>I say </a:t>
            </a:r>
            <a:r>
              <a:rPr b="0" lang="en-GB" sz="3600" spc="-1" strike="noStrike">
                <a:solidFill>
                  <a:srgbClr val="ffff00"/>
                </a:solidFill>
                <a:latin typeface="Courier New"/>
              </a:rPr>
              <a:t>hello, world</a:t>
            </a:r>
            <a:r>
              <a:rPr b="0" lang="en-GB" sz="3600" spc="-1" strike="noStrike">
                <a:solidFill>
                  <a:srgbClr val="ffffcc"/>
                </a:solidFill>
                <a:latin typeface="Courier New"/>
              </a:rPr>
              <a:t> of markup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14800" y="4965840"/>
            <a:ext cx="1371600" cy="10857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4965840"/>
            <a:ext cx="1371600" cy="10857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4965840"/>
            <a:ext cx="2743200" cy="10857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4965840"/>
            <a:ext cx="1600200" cy="108576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85880" y="2127240"/>
            <a:ext cx="114300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2057400"/>
            <a:ext cx="114300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q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1000" y="2057400"/>
            <a:ext cx="1143000" cy="1143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660066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6" idx="4"/>
          </p:cNvCxnSpPr>
          <p:nvPr/>
        </p:nvCxnSpPr>
        <p:spPr>
          <a:xfrm flipH="1">
            <a:off x="1370880" y="3270240"/>
            <a:ext cx="886680" cy="1697760"/>
          </a:xfrm>
          <a:prstGeom prst="straightConnector1">
            <a:avLst/>
          </a:prstGeom>
          <a:ln w="36720">
            <a:solidFill>
              <a:srgbClr val="c0c0c0"/>
            </a:solidFill>
            <a:round/>
          </a:ln>
        </p:spPr>
      </p:cxnSp>
      <p:cxnSp>
        <p:nvCxnSpPr>
          <p:cNvPr id="140" name=""/>
          <p:cNvCxnSpPr>
            <a:stCxn id="138" idx="4"/>
            <a:endCxn id="134" idx="0"/>
          </p:cNvCxnSpPr>
          <p:nvPr/>
        </p:nvCxnSpPr>
        <p:spPr>
          <a:xfrm>
            <a:off x="5962680" y="3200400"/>
            <a:ext cx="1124640" cy="1767600"/>
          </a:xfrm>
          <a:prstGeom prst="straightConnector1">
            <a:avLst/>
          </a:prstGeom>
          <a:ln w="36720">
            <a:solidFill>
              <a:srgbClr val="c0c0c0"/>
            </a:solidFill>
            <a:round/>
          </a:ln>
        </p:spPr>
      </p:cxnSp>
      <p:cxnSp>
        <p:nvCxnSpPr>
          <p:cNvPr id="141" name=""/>
          <p:cNvCxnSpPr>
            <a:stCxn id="136" idx="4"/>
            <a:endCxn id="135" idx="0"/>
          </p:cNvCxnSpPr>
          <p:nvPr/>
        </p:nvCxnSpPr>
        <p:spPr>
          <a:xfrm>
            <a:off x="2257560" y="3270240"/>
            <a:ext cx="829440" cy="1697760"/>
          </a:xfrm>
          <a:prstGeom prst="straightConnector1">
            <a:avLst/>
          </a:prstGeom>
          <a:ln w="36720">
            <a:solidFill>
              <a:srgbClr val="c0c0c0"/>
            </a:solidFill>
            <a:round/>
          </a:ln>
        </p:spPr>
      </p:cxnSp>
      <p:cxnSp>
        <p:nvCxnSpPr>
          <p:cNvPr id="142" name=""/>
          <p:cNvCxnSpPr>
            <a:stCxn id="137" idx="4"/>
            <a:endCxn id="132" idx="0"/>
          </p:cNvCxnSpPr>
          <p:nvPr/>
        </p:nvCxnSpPr>
        <p:spPr>
          <a:xfrm>
            <a:off x="4000680" y="3200400"/>
            <a:ext cx="800640" cy="1767600"/>
          </a:xfrm>
          <a:prstGeom prst="straightConnector1">
            <a:avLst/>
          </a:prstGeom>
          <a:ln w="36720">
            <a:solidFill>
              <a:srgbClr val="c0c0c0"/>
            </a:solidFill>
            <a:round/>
          </a:ln>
        </p:spPr>
      </p:cxnSp>
      <p:cxnSp>
        <p:nvCxnSpPr>
          <p:cNvPr id="143" name=""/>
          <p:cNvCxnSpPr>
            <a:stCxn id="138" idx="4"/>
            <a:endCxn id="132" idx="0"/>
          </p:cNvCxnSpPr>
          <p:nvPr/>
        </p:nvCxnSpPr>
        <p:spPr>
          <a:xfrm flipH="1">
            <a:off x="4800600" y="3200400"/>
            <a:ext cx="1162440" cy="1767600"/>
          </a:xfrm>
          <a:prstGeom prst="straightConnector1">
            <a:avLst/>
          </a:prstGeom>
          <a:ln w="36720">
            <a:solidFill>
              <a:srgbClr val="c0c0c0"/>
            </a:solidFill>
            <a:round/>
          </a:ln>
        </p:spPr>
      </p:cxnSp>
      <p:cxnSp>
        <p:nvCxnSpPr>
          <p:cNvPr id="144" name=""/>
          <p:cNvCxnSpPr>
            <a:stCxn id="137" idx="4"/>
            <a:endCxn id="135" idx="0"/>
          </p:cNvCxnSpPr>
          <p:nvPr/>
        </p:nvCxnSpPr>
        <p:spPr>
          <a:xfrm flipH="1">
            <a:off x="3085920" y="3200400"/>
            <a:ext cx="915120" cy="1767600"/>
          </a:xfrm>
          <a:prstGeom prst="straightConnector1">
            <a:avLst/>
          </a:prstGeom>
          <a:ln w="36720">
            <a:solidFill>
              <a:srgbClr val="c0c0c0"/>
            </a:solidFill>
            <a:round/>
          </a:ln>
        </p:spPr>
      </p:cxnSp>
      <p:sp>
        <p:nvSpPr>
          <p:cNvPr id="145" name=""/>
          <p:cNvSpPr/>
          <p:nvPr/>
        </p:nvSpPr>
        <p:spPr>
          <a:xfrm>
            <a:off x="5943600" y="685800"/>
            <a:ext cx="2971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s this really what we're trying to say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95400"/>
            <a:ext cx="91440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Maybe..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ybe it's not a graph theory problem at al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segments are artificial, but have to be first-class in graph theoretical mode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verlap of regions is not the same thing as subdividing the regions and drawing arcs to all of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ybe we're in computational geometry inste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as notions of “locations” and “regions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verlap is trivi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95400"/>
            <a:ext cx="91440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Maybe..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23864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Graph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d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c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omina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rece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?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08600" y="1143000"/>
            <a:ext cx="423864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mp'l Geomet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g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ordin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tai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rece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verlap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angenc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95400"/>
            <a:ext cx="91440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cations are discrete (integers) not dense (real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only have one dimen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o it might not feel very “geometric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 particular notion of associating names/ attributes with regions, unlike in graph the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95400"/>
            <a:ext cx="91440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Hors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XML representation for overlap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 model or stru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r “normal” cas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&lt;p&gt;I say &lt;q&gt;hello, world&lt;/q&gt; of markup.&lt;/p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r overlap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p&gt;I say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&lt;q sId='s1'/&gt; hello, &lt;/p&gt;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&lt;p&gt;world&lt;q eId='s1'/&gt;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f markup.&lt;/r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tty much like other milestone approach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ut uses the same GI for mileston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y mileston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ets you use XML tool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ill has pretty good repr. pow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-location of markup and cont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y Trojan milestone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GI is clearer than &lt;milestone/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ttribute dcls apply righ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Easy to tea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95400"/>
            <a:ext cx="91440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Troja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686800" cy="55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paper is really abou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“endpoint” probl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dentical vs. adjacent endpoi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ow we should model addres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7680" indent="-3376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arning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 think this is a really hard iss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've thought I had it analyzed, and later found major pieces I was miss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 don't think this can be solved without much more analysis of very specific implications and cas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3680" indent="-28116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paper is to provoke thought; its ideas are not answers (at least ye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The order probl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 markup languages, tags are part of the “string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refore they are </a:t>
            </a:r>
            <a:r>
              <a:rPr b="0" i="1" lang="en-GB" sz="2800" spc="-1" strike="noStrike">
                <a:solidFill>
                  <a:srgbClr val="ffffcc"/>
                </a:solidFill>
                <a:latin typeface="Times New Roman"/>
              </a:rPr>
              <a:t>necessarily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orde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 other representations (e.g., standoff markup), tags are </a:t>
            </a:r>
            <a:r>
              <a:rPr b="0" i="1" lang="en-GB" sz="3200" spc="-1" strike="noStrike">
                <a:solidFill>
                  <a:srgbClr val="ffffcc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 part of the same spa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o, they </a:t>
            </a:r>
            <a:r>
              <a:rPr b="0" i="1" lang="en-GB" sz="2800" spc="-1" strike="noStrike">
                <a:solidFill>
                  <a:srgbClr val="ffffcc"/>
                </a:solidFill>
                <a:latin typeface="Times New Roman"/>
              </a:rPr>
              <a:t>need not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have any order relative to other tags</a:t>
            </a:r>
            <a:br>
              <a:rPr sz="2800"/>
            </a:b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3200" spc="-1" strike="noStrike">
                <a:solidFill>
                  <a:srgbClr val="ffffcc"/>
                </a:solidFill>
                <a:latin typeface="Times New Roman"/>
              </a:rPr>
              <a:t>Should such order be a part of our model,</a:t>
            </a:r>
            <a:br>
              <a:rPr sz="3200"/>
            </a:br>
            <a:r>
              <a:rPr b="0" i="1" lang="en-GB" sz="3200" spc="-1" strike="noStrike">
                <a:solidFill>
                  <a:srgbClr val="ffffcc"/>
                </a:solidFill>
                <a:latin typeface="Times New Roman"/>
              </a:rPr>
              <a:t>or is it merely an artifact of embedded markup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If tags are ordered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they have “location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verlap/non-overlap can be defined from th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ut: are those locations from the same space as content locations, or no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ut: do those locations have any value </a:t>
            </a:r>
            <a:r>
              <a:rPr b="0" i="1" lang="en-GB" sz="2800" spc="-1" strike="noStrike">
                <a:solidFill>
                  <a:srgbClr val="ffffcc"/>
                </a:solidFill>
                <a:latin typeface="Times New Roman"/>
              </a:rPr>
              <a:t>other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than to provide tag-ordering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r example, do we want to refer/link to </a:t>
            </a:r>
            <a:r>
              <a:rPr b="0" lang="en-GB" sz="2400" spc="-1" strike="noStrike" u="sng">
                <a:solidFill>
                  <a:srgbClr val="ffffcc"/>
                </a:solidFill>
                <a:uFillTx/>
                <a:latin typeface="Times New Roman"/>
              </a:rPr>
              <a:t>tags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lnSpc>
                <a:spcPct val="93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cf TEI uncertainty meta-meta-marku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we can never say two elements have truly identical starts, ends, or bo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So...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tag ordering, how can we say that a certain portion of content is (say)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 name, and also </a:t>
            </a:r>
            <a:r>
              <a:rPr b="0" i="1" lang="en-GB" sz="2800" spc="-1" strike="noStrike">
                <a:solidFill>
                  <a:srgbClr val="ffffcc"/>
                </a:solidFill>
                <a:latin typeface="Times New Roman"/>
              </a:rPr>
              <a:t>equal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 misspelling, variant reading, allusion, link,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undamental problem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ith embedded markup, two elements can't contain some content without one also containing the o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Embedded overlapping markup has </a:t>
            </a:r>
            <a:r>
              <a:rPr b="0" i="1" lang="en-GB" sz="2800" spc="-1" strike="noStrike">
                <a:solidFill>
                  <a:srgbClr val="ffffcc"/>
                </a:solidFill>
                <a:latin typeface="Times New Roman"/>
              </a:rPr>
              <a:t>exactly the same problem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2800" spc="-1" strike="noStrike">
                <a:solidFill>
                  <a:srgbClr val="ffffcc"/>
                </a:solidFill>
                <a:latin typeface="Times New Roman"/>
              </a:rPr>
              <a:t>This is a very strange limi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Disord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 there good cases where order is truly undefined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ags that predicate separate, non-interacting semantics of their cont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eing an x and a y and a 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eing a quote and a noun phras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easy with multiple markup streams/perspectiv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507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ffcc00"/>
                </a:solidFill>
                <a:latin typeface="Times New Roman"/>
              </a:rPr>
              <a:t>Can we represent tha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: complicate tag synta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&lt;p ^ q&gt;..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: just ignore ord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Easy to impl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1240" indent="-284040">
              <a:lnSpc>
                <a:spcPct val="93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ut: Exactly </a:t>
            </a:r>
            <a:r>
              <a:rPr b="0" i="1" lang="en-GB" sz="2800" spc="-1" strike="noStrike">
                <a:solidFill>
                  <a:srgbClr val="ffffcc"/>
                </a:solidFill>
                <a:latin typeface="Times New Roman"/>
              </a:rPr>
              <a:t>when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we do it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X/Y is sometimes distinct from Y/X, and sometimes not, for the same tags X/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is is the “killer” case, so long as it's not an artifact of poor choice of X and 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n J. DeRose</dc:creator>
  <dc:description/>
  <dc:language>en-US</dc:language>
  <cp:lastModifiedBy/>
  <cp:revision>0</cp:revision>
  <dc:subject/>
  <dc:title>Introduction to XSLT Hypertext 2002 College Park, MD</dc:title>
</cp:coreProperties>
</file>