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4463280"/>
            <a:ext cx="91440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446328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446328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184464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184464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446328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446328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4463280"/>
            <a:ext cx="294408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46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1844640"/>
            <a:ext cx="446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85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1844640"/>
            <a:ext cx="446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446328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4622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446328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2068200"/>
            <a:ext cx="9144000" cy="39128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1844640"/>
            <a:ext cx="44622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4463280"/>
            <a:ext cx="9144000" cy="23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200" spc="-1" strike="noStrike">
                <a:solidFill>
                  <a:srgbClr val="342934"/>
                </a:solidFill>
                <a:latin typeface="Tahoma"/>
              </a:rPr>
              <a:t>Click to edit the title text format</a:t>
            </a:r>
            <a:endParaRPr b="1" lang="en-US" sz="142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600"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Click to edit the outline text format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1" marL="3600" indent="-3600">
              <a:lnSpc>
                <a:spcPct val="90000"/>
              </a:lnSpc>
              <a:buClr>
                <a:srgbClr val="9e849e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Second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2" marL="3600" indent="-3600">
              <a:lnSpc>
                <a:spcPct val="90000"/>
              </a:lnSpc>
              <a:buClr>
                <a:srgbClr val="695269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Third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3" marL="3600" indent="-3600">
              <a:lnSpc>
                <a:spcPct val="90000"/>
              </a:lnSpc>
              <a:buClr>
                <a:srgbClr val="695269"/>
              </a:buClr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Fourth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4" marL="3600" indent="-3600">
              <a:lnSpc>
                <a:spcPct val="90000"/>
              </a:lnSpc>
              <a:buClr>
                <a:srgbClr val="6952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Fifth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5" marL="3600" indent="-3600">
              <a:lnSpc>
                <a:spcPct val="90000"/>
              </a:lnSpc>
              <a:buClr>
                <a:srgbClr val="6952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Sixth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6" marL="3600" indent="-3600">
              <a:lnSpc>
                <a:spcPct val="90000"/>
              </a:lnSpc>
              <a:buClr>
                <a:srgbClr val="695269"/>
              </a:buClr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95269"/>
                </a:solidFill>
                <a:latin typeface="Tahoma"/>
              </a:rPr>
              <a:t>Seventh Outline Level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342934"/>
                </a:solidFill>
                <a:latin typeface="Tahoma"/>
              </a:rPr>
              <a:t>Creole</a:t>
            </a:r>
            <a:endParaRPr b="1" lang="en-US" sz="129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Jeni Tennison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inspiration from Michael SMcQ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help from Wendell &amp; John Cowan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C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omposable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	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    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R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egular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         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E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xpressions for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             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O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verlapping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                  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L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anguages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                      </a:t>
            </a:r>
            <a:r>
              <a:rPr b="1" lang="en-GB" sz="4400" spc="-1" strike="noStrike">
                <a:solidFill>
                  <a:srgbClr val="695269"/>
                </a:solidFill>
                <a:latin typeface="Tahoma"/>
              </a:rPr>
              <a:t>e</a:t>
            </a:r>
            <a:r>
              <a:rPr b="1" lang="en-GB" sz="4400" spc="-1" strike="noStrike">
                <a:solidFill>
                  <a:srgbClr val="9e849e"/>
                </a:solidFill>
                <a:latin typeface="Tahoma"/>
              </a:rPr>
              <a:t>tc.</a:t>
            </a:r>
            <a:endParaRPr b="1" lang="en-US" sz="4400" spc="-1" strike="noStrike">
              <a:solidFill>
                <a:srgbClr val="695269"/>
              </a:solidFill>
              <a:latin typeface="Tahoma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" dur="1" fill="hold"/>
                                  <p:tgtEl>
                                    <p:spTgt spid="3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0" dur="1" fill="hold"/>
                                  <p:tgtEl>
                                    <p:spTgt spid="3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1" dur="1" fill="hold"/>
                                  <p:tgtEl>
                                    <p:spTgt spid="3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2" dur="1" fill="hold"/>
                                  <p:tgtEl>
                                    <p:spTgt spid="3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3" dur="1" fill="hold"/>
                                  <p:tgtEl>
                                    <p:spTgt spid="3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4" dur="1" fill="hold"/>
                                  <p:tgtEl>
                                    <p:spTgt spid="3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5" dur="1" fill="hold"/>
                                  <p:tgtEl>
                                    <p:spTgt spid="3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6" dur="1" fill="hold"/>
                                  <p:tgtEl>
                                    <p:spTgt spid="3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47" dur="1" fill="hold"/>
                                  <p:tgtEl>
                                    <p:spTgt spid="3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342934"/>
                </a:solidFill>
                <a:latin typeface="Tahoma"/>
              </a:rPr>
              <a:t>Creole</a:t>
            </a:r>
            <a:endParaRPr b="1" lang="en-US" sz="129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schema language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grammar not constraint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supports overlapping trees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supports self-overlap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schema as single grammar 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no instance annotation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based on RELAX NG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proper extension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  <p:animClr clrSpc="rgb"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2" dur="1" fill="hold"/>
                                  <p:tgtEl>
                                    <p:spTgt spid="4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93" dur="1" fill="hold"/>
                                  <p:tgtEl>
                                    <p:spTgt spid="4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87480" y="260280"/>
            <a:ext cx="905652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&lt;book|&lt;page num="1"|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&lt;title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Genesis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title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&lt;section|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&lt;heading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The flood and the tower of Babel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heading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&lt;chapter num="7"|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 &lt;para|...&lt;s|&lt;verse num="23"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God wiped out every living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thing that existed on earth, 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&lt;index~1 ref="i0037"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man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and 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&lt;index~2 ref="i0038"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beast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index~1&gt;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, reptile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page&gt;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&lt;page num="74"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and bird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index~2&gt;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; they were all wiped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out over the whole earth, and only Noah and his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company in the ark survived.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s&gt;|verse&gt;|para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 &lt;para|&lt;verse num="24"|&lt;s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When the waters had increased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over the earth for a hundred and fifty days,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verse&gt;|chapter&gt;&lt;chapter num="8"|&lt;verse num="1"|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God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thought of Noah and all the wild animals and the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cattle with him in the ark, and he made a wind pass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over the earth, and the waters began to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    </a:t>
            </a:r>
            <a:r>
              <a:rPr b="0" lang="nb-NO" sz="2000" spc="-1" strike="noStrike">
                <a:solidFill>
                  <a:srgbClr val="695269"/>
                </a:solidFill>
                <a:latin typeface="Lucida Console"/>
              </a:rPr>
              <a:t>subside.</a:t>
            </a: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verse&gt;|s&gt;...|para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 |chapter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 |section&gt;</a:t>
            </a:r>
            <a:br>
              <a:rPr sz="2000"/>
            </a:br>
            <a:r>
              <a:rPr b="1" lang="nb-NO" sz="2000" spc="-1" strike="noStrike">
                <a:solidFill>
                  <a:srgbClr val="695269"/>
                </a:solidFill>
                <a:latin typeface="Lucida Console"/>
              </a:rPr>
              <a:t>|page&gt;|book&gt;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0280"/>
            <a:ext cx="125892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260280"/>
            <a:ext cx="252072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2708280"/>
            <a:ext cx="2520720" cy="43164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549360"/>
            <a:ext cx="3384360" cy="43164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907920"/>
            <a:ext cx="16570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125360"/>
            <a:ext cx="7920000" cy="50328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1280" y="1773360"/>
            <a:ext cx="1008000" cy="43164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3573360"/>
            <a:ext cx="100800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84280"/>
            <a:ext cx="273528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03640" y="4221000"/>
            <a:ext cx="273528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1773360"/>
            <a:ext cx="2448000" cy="43164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547640" y="3573360"/>
            <a:ext cx="244800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4221000"/>
            <a:ext cx="2447640" cy="43200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1773360"/>
            <a:ext cx="50472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95640" y="3645000"/>
            <a:ext cx="5050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720" y="2133720"/>
            <a:ext cx="3456000" cy="3585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2421000"/>
            <a:ext cx="15112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2421000"/>
            <a:ext cx="33112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2708280"/>
            <a:ext cx="143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1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4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7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8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87480" y="65160"/>
            <a:ext cx="9056520" cy="67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start   = book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book    = element book {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            </a:t>
            </a: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page+ ~ 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            ( title, ( chapter+ ~ section+ ) ) }</a:t>
            </a:r>
            <a:br>
              <a:rPr sz="2000"/>
            </a:b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page    = range page { attribute num { text }, text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title   = element title { text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chapter = range chapter {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            </a:t>
            </a: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attribute num { text }, 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            </a:t>
            </a: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verse+ }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verse   = range verse { attribute num { text }, text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section = range section { heading, para+ }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heading = element heading { indexed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para    = range para { verse+ ~ s+ }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s       = range s { indexed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indexed = concurOneOrMore { mixed { index* } }</a:t>
            </a:r>
            <a:br>
              <a:rPr sz="2000"/>
            </a:br>
            <a:r>
              <a:rPr b="1" lang="en-US" sz="2000" spc="-1" strike="noStrike">
                <a:solidFill>
                  <a:srgbClr val="695269"/>
                </a:solidFill>
                <a:latin typeface="Lucida Console"/>
              </a:rPr>
              <a:t>index   = range index { attribute ref { text }, text }</a:t>
            </a:r>
            <a:endParaRPr b="0" lang="en-US" sz="20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08000" y="692280"/>
            <a:ext cx="9352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557360"/>
            <a:ext cx="838836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981000"/>
            <a:ext cx="100800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133720"/>
            <a:ext cx="5219640" cy="43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692280"/>
            <a:ext cx="36036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32360" y="981000"/>
            <a:ext cx="36036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635280" y="981000"/>
            <a:ext cx="136836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708280"/>
            <a:ext cx="8532720" cy="1441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292720" y="981000"/>
            <a:ext cx="144000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292640"/>
            <a:ext cx="6732720" cy="7207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64000" y="5229360"/>
            <a:ext cx="1944720" cy="43164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137280"/>
            <a:ext cx="7308720" cy="387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19280" y="404640"/>
            <a:ext cx="12970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2205000"/>
            <a:ext cx="12970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19280" y="4653000"/>
            <a:ext cx="129708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649764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47640" y="558972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547640" y="522936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436572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47640" y="371628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47640" y="285264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547640" y="1628640"/>
            <a:ext cx="1079640" cy="360360"/>
          </a:xfrm>
          <a:prstGeom prst="ellipse">
            <a:avLst/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33360"/>
            <a:ext cx="8388360" cy="1079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9e6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695269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0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000"/>
                            </p:stCondLst>
                            <p:childTnLst>
                              <p:par>
                                <p:cTn id="37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4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6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8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9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02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6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342934"/>
                </a:solidFill>
                <a:latin typeface="Tahoma"/>
              </a:rPr>
              <a:t>Conclusion</a:t>
            </a:r>
            <a:endParaRPr b="1" lang="en-US" sz="129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implementable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Brzozowski derivative algorithm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streaming / fast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reasonably powerful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self-overlap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not virtual / interrupted elements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easy to write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marL="46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695269"/>
                </a:solidFill>
                <a:latin typeface="Tahoma"/>
              </a:rPr>
              <a:t>syntax neutral</a:t>
            </a:r>
            <a:endParaRPr b="1" lang="en-US" sz="48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9e849e"/>
                </a:solidFill>
                <a:latin typeface="Tahoma"/>
              </a:rPr>
              <a:t>XML, LMNL, TexMecs, …</a:t>
            </a:r>
            <a:endParaRPr b="1" lang="en-US" sz="3600" spc="-1" strike="noStrike">
              <a:solidFill>
                <a:srgbClr val="9e849e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7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5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  <p:animClr clrSpc="rgb">
                                <p:cBhvr>
                                  <p:cTn id="5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  <p:animClr clrSpc="rgb">
                                <p:cBhvr>
                                  <p:cTn id="5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1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65" dur="1" fill="hold"/>
                                  <p:tgtEl>
                                    <p:spTgt spid="91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e849e"/>
                                </p:to>
                              </p:animClr>
                              <p:animClr clrSpc="rgb">
                                <p:cBhvr>
                                  <p:cTn id="566" dur="1" fill="hold"/>
                                  <p:tgtEl>
                                    <p:spTgt spid="91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e2dae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84464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0" bIns="180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900" spc="-1" strike="noStrike">
                <a:solidFill>
                  <a:srgbClr val="342934"/>
                </a:solidFill>
                <a:latin typeface="Tahoma"/>
              </a:rPr>
              <a:t>Links</a:t>
            </a:r>
            <a:endParaRPr b="1" lang="en-US" sz="12900" spc="-1" strike="noStrike">
              <a:solidFill>
                <a:srgbClr val="342934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844640"/>
            <a:ext cx="9144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95269"/>
                </a:solidFill>
                <a:latin typeface="Tahoma"/>
              </a:rPr>
              <a:t>description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849e"/>
                </a:solidFill>
                <a:latin typeface="Tahoma"/>
              </a:rPr>
              <a:t>http://lmnlwiki.org/index.php/Creole</a:t>
            </a:r>
            <a:endParaRPr b="1" lang="en-US" sz="32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95269"/>
                </a:solidFill>
                <a:latin typeface="Tahoma"/>
              </a:rPr>
              <a:t>algorithm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849e"/>
                </a:solidFill>
                <a:latin typeface="Tahoma"/>
              </a:rPr>
              <a:t>http://lmnlwiki.org/index.php/</a:t>
            </a:r>
            <a:br>
              <a:rPr sz="3200"/>
            </a:br>
            <a:r>
              <a:rPr b="1" lang="en-GB" sz="3200" spc="-1" strike="noStrike">
                <a:solidFill>
                  <a:srgbClr val="9e849e"/>
                </a:solidFill>
                <a:latin typeface="Tahoma"/>
              </a:rPr>
              <a:t>  Algorithm_for_Creole_Validation</a:t>
            </a:r>
            <a:endParaRPr b="1" lang="en-US" sz="3200" spc="-1" strike="noStrike">
              <a:solidFill>
                <a:srgbClr val="9e849e"/>
              </a:solidFill>
              <a:latin typeface="Tahoma"/>
            </a:endParaRPr>
          </a:p>
          <a:p>
            <a:pPr marL="46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95269"/>
                </a:solidFill>
                <a:latin typeface="Tahoma"/>
              </a:rPr>
              <a:t>XTech 2007 paper</a:t>
            </a:r>
            <a:endParaRPr b="1" lang="en-US" sz="5400" spc="-1" strike="noStrike">
              <a:solidFill>
                <a:srgbClr val="695269"/>
              </a:solidFill>
              <a:latin typeface="Tahoma"/>
            </a:endParaRPr>
          </a:p>
          <a:p>
            <a:pPr lvl="1" marL="1843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9e849e"/>
                </a:solidFill>
                <a:latin typeface="Tahoma"/>
              </a:rPr>
              <a:t>http://2007.xtech.org/public/schedule/</a:t>
            </a:r>
            <a:br>
              <a:rPr sz="3200"/>
            </a:br>
            <a:r>
              <a:rPr b="1" lang="en-GB" sz="3200" spc="-1" strike="noStrike">
                <a:solidFill>
                  <a:srgbClr val="9e849e"/>
                </a:solidFill>
                <a:latin typeface="Tahoma"/>
              </a:rPr>
              <a:t>  detail/77</a:t>
            </a:r>
            <a:endParaRPr b="1" lang="en-US" sz="3200" spc="-1" strike="noStrike">
              <a:solidFill>
                <a:srgbClr val="9e849e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1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4T19:37:47Z</dcterms:created>
  <dc:creator>Jeni Tennison</dc:creator>
  <dc:description/>
  <dc:language>en-US</dc:language>
  <cp:lastModifiedBy>Jeni Tennison</cp:lastModifiedBy>
  <dcterms:modified xsi:type="dcterms:W3CDTF">2007-08-05T21:01:13Z</dcterms:modified>
  <cp:revision>11</cp:revision>
  <dc:subject/>
  <dc:title>Creole</dc:title>
</cp:coreProperties>
</file>